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369-9845-4254-BB4D-75D195D7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68F-70BA-46FD-B3A2-6EFA8F14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7B1-980B-4F6C-87E1-73A5EC23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EAB-A911-4198-8A37-D22BFB70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91D-D881-420E-8D1E-7F908749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1E0-3CCB-4C97-82B7-99ABA72A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4F8-96B5-43BA-BF23-881B007E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C57-0581-491A-A52B-F4471B56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DB4-18B6-4386-A5A7-6BE67313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2CB-42D2-4192-89DD-F150ABF1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B0A-FAB5-4223-BD26-9757A526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E5F-4ABD-4F62-A232-C21FE41D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08F0-8B1E-4B57-9493-5E69A58DD4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64088"/>
          <a:stretch/>
        </p:blipFill>
        <p:spPr>
          <a:xfrm>
            <a:off x="0" y="44280"/>
            <a:ext cx="9109080" cy="11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43678" r="0" b="0"/>
          <a:stretch/>
        </p:blipFill>
        <p:spPr>
          <a:xfrm>
            <a:off x="179280" y="2708280"/>
            <a:ext cx="8713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ميت سورة الأعراف بهذا الا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لفظ (الأعراف) فيها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06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 إلا الآيات من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6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إلى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70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فمدن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29596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71628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407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43354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6"/>
          <p:cNvCxnSpPr/>
          <p:nvPr/>
        </p:nvCxnSpPr>
        <p:spPr>
          <a:xfrm flipH="1">
            <a:off x="8456040" y="49413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479736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عث والجنة والنا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8"/>
          <p:cNvSpPr/>
          <p:nvPr/>
        </p:nvSpPr>
        <p:spPr>
          <a:xfrm>
            <a:off x="8820000" y="4327560"/>
            <a:ext cx="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19"/>
          <p:cNvCxnSpPr/>
          <p:nvPr/>
        </p:nvCxnSpPr>
        <p:spPr>
          <a:xfrm flipH="1">
            <a:off x="8456040" y="4652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4459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حيد والرسا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1"/>
          <p:cNvCxnSpPr/>
          <p:nvPr/>
        </p:nvCxnSpPr>
        <p:spPr>
          <a:xfrm flipH="1">
            <a:off x="8456040" y="53319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515772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ص الأنبياء والأمم الساب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56685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55180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بعض القضايا الاجتماع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8920" y="60098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5600" y="5834160"/>
            <a:ext cx="8209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بعض الآداب والأخلاق الإسلام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7"/>
          <p:cNvCxnSpPr/>
          <p:nvPr/>
        </p:nvCxnSpPr>
        <p:spPr>
          <a:xfrm flipH="1">
            <a:off x="8458920" y="63468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5600" y="6194520"/>
            <a:ext cx="820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المعاصي والإعراض عن طاعة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1424160" y="1700280"/>
            <a:ext cx="7372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